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88E-4925-4A3E-B5FE-6D04E25D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F236-9023-4EBC-96E9-487FDAC1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F8CE-12BC-42C4-A0DA-3ECF2442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83F8-A64D-4472-8CD2-7647F6F0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84E9-BBA3-4590-A07A-0D5B5161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7B7A-226B-48D7-906D-67A336A8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506E-986E-41EF-8058-33D8CF01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243D-1E02-4A15-88C3-D9F65420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7472-FB3C-401F-A6CB-1058E6E8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15FD-1570-48A6-9F38-B5262E8A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7FC8-188E-4EB8-8353-18D6BF02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19BC-6222-48A3-A076-1591FD94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B2B7-D532-4744-899A-4B470C2F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D470-8045-4133-BBC2-96444C4E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0D55-D585-486C-A36B-E98F03A4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93FA-3F41-4BB6-B367-2B75B992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210F-1C96-4861-9EC4-565DE82A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9D8-8FCF-4E98-9E9A-FE424BE8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038D-86EB-494A-B589-C1BB8000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2D6-E546-4097-88BB-30E317F6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4AD-8012-4D1E-A71F-6E0E7ABF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E2CA-F986-4A22-BC2F-55757CA6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F66-F79C-4C1E-BF6C-7331C5B2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904-C1B3-4DCB-8892-88D0C5DC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3065-65C8-4E38-BD90-BCD7F68141C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8A2C-864B-4DAD-8B81-52B6C9DD5A4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rts of Speec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ight Parts of Speech you MUST know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hy do we spend so much time on parts of speech in class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need to learn every single principle because less-than-great grammar dooms you to a life of being misunderst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many times have you had to clarify what you meant to “say”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oint is to understand grammatical principles so well that you can communicate beautifully with no effort at a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Nou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noun is a word or word group that is used to name a person, a place, a thing, or idea.  It is used as a subject, direct object, predicate nominative, or object of the prepos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no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ronoun is a word that is used in place of a noun; it can be the subject or object of the prepos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djectiv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djective is a word that is used to describe a noun or a pronoun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er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verb is an action or being word that shows or tells what the subject is do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dver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dverb is a word that modifies (describes) a verb, an adjective, or another adverb; usually ends in “ly,” answers the questions – HOW, WHEN, or WHE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e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reposition is a word that begins a phrase that shows the relationship of a noun or pronoun to another word; it can not stand alone as a sentence; it always has a phrase that goes with it.  The simple subject or simple predicate will NEVER be found he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njun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njunction is a word that connects words, phrases, or word groups (clauses or phrases) together; there are two types: coordination and correlativ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terj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interjection is a word that expresses an emotion or strong feeling and is usually found at the beginning or end of a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8:51:29Z</dcterms:created>
  <dc:creator>sjaye</dc:creator>
  <dc:description/>
  <dc:language>en-US</dc:language>
  <cp:lastModifiedBy>sjaye</cp:lastModifiedBy>
  <dcterms:modified xsi:type="dcterms:W3CDTF">2010-10-25T19:36:03Z</dcterms:modified>
  <cp:revision>7</cp:revision>
  <dc:subject/>
  <dc:title>Parts of Speech</dc:title>
</cp:coreProperties>
</file>